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8C48-264E-4378-B0D9-CC638D0B5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DDCD-4680-492E-96AD-36AF22C050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4C2D-BDFB-4301-B8D0-38039B9855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C234-40B8-4838-95EC-F010D08724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755E-37CB-4675-82CA-AC246EBBBF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9972-A8AF-46EE-91C7-417B8FD614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B713-9217-4166-AC0E-F1F7769530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55CA-AFD3-489B-8B46-791B22EF40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5ADD-27ED-46B6-8ADB-B031E31D53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C43-74DA-46C8-B26F-CC2298B0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5D6-B5CC-47D2-BE0F-302B25C2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2AE-E8F6-49A2-B21E-361F8149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03F-5AB6-4F6D-94D8-30B11743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9FD9-51A4-48E4-8AFB-DFE50B20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8A56-903A-4B83-B24B-EBA00DEE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1343-E74E-437E-BA6C-22994435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160C-20BE-4A8A-8CFE-71F9A4FE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2841-848F-48E5-A4A0-F8200D6E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41AE-5E08-478C-8EF9-E4CFC292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F6DF-2188-42B0-A16F-609922D1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E0B-5105-496B-B42C-02B7E798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D897-AFB0-4E5E-A89C-9AC80FEB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A765-529B-4008-A232-877E1AA0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645C-0883-4329-80D4-E171B2E9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44E0-2A79-4481-9A9A-E17CC2CF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594B-5E84-4B9A-B7CF-A05F7926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1B5F-C66C-499D-B7FE-817D972C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19EA-67DB-40BC-8DBE-5EBAE7E2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B889-52E8-4B67-AEE4-3C075BB5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4BE23-3E92-4770-85E0-797AC6F5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A275-2891-4BF3-883C-8D1DC4FA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803-8D34-4F27-825E-FB1D127A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0264-D8D8-4FA0-856A-8E88DD87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7AA81-0ED0-4F71-85D1-B81024D7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61586-B2B3-406A-981C-CCE3C557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6504-97D0-404E-8818-8D5EBB8D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AE7C-D541-4B3A-A4A7-531446C7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988B-B6EC-4500-9273-8EE15A4E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20A3B-415E-4260-922D-21976370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985-4E44-4CFD-82F0-3DC026E5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41D-4828-4CD6-B11F-BEC0CE9A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65D-93CF-474F-9139-C8397104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3F8-7BD0-45AC-A3AE-D12AC848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8A8-204F-4607-9D4C-E872D780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2DD-8B1A-4797-9ADA-17A30BBC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5B2A-6743-46ED-A26A-64071AB92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E408-FB57-4E0D-9998-EC2B43AC8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F480-A070-438D-BE31-2AA50746DD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The Challenges of Modern Fede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yli"/>
          <p:cNvPicPr/>
          <p:nvPr/>
        </p:nvPicPr>
        <p:blipFill>
          <a:blip r:embed="rId1"/>
          <a:stretch/>
        </p:blipFill>
        <p:spPr>
          <a:xfrm>
            <a:off x="7620120" y="5943600"/>
            <a:ext cx="990360" cy="42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scrap"/>
          <p:cNvPicPr/>
          <p:nvPr/>
        </p:nvPicPr>
        <p:blipFill>
          <a:blip r:embed="rId2"/>
          <a:stretch/>
        </p:blipFill>
        <p:spPr>
          <a:xfrm>
            <a:off x="838080" y="1981080"/>
            <a:ext cx="2949840" cy="342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scrap"/>
          <p:cNvPicPr/>
          <p:nvPr/>
        </p:nvPicPr>
        <p:blipFill>
          <a:blip r:embed="rId3"/>
          <a:stretch/>
        </p:blipFill>
        <p:spPr>
          <a:xfrm>
            <a:off x="4419720" y="2286000"/>
            <a:ext cx="4114800" cy="27352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1295280" y="55627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762120" y="54100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, September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5031000" y="502920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Orleans, August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ederalism is…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ystem of government in which political authority is divided between a national (or federal) government, and its political subdivisions (such as stat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ederalism is…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ystem where national and state governments each have defined powers, with some being shared by both and some being denied to b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27792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Dual Federalism (1789-193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and state governments are co-equals, each sovere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ow interpretation of the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only has jurisdiction if clear expressed in the Constitution (ex: coin money, foreign affai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have greater role and powers (ex: public education, race rel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doe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duel federalis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have in common with a layer c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scrap"/>
          <p:cNvPicPr/>
          <p:nvPr/>
        </p:nvPicPr>
        <p:blipFill>
          <a:blip r:embed="rId1"/>
          <a:stretch/>
        </p:blipFill>
        <p:spPr>
          <a:xfrm>
            <a:off x="1523880" y="838080"/>
            <a:ext cx="62485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operative Federalism (1933-present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government clearly supreme over the states with wide interpretation of the “necessary and proper clause” (Article I, Sect. 8 of the Constitution, also known as the “elastic clause.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government intervenes or assists in some areas traditionally left to the states (ex: education, health care, civil righ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with the New Deal in the 193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does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cooperative federalism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have in common with a marble c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29" descr="scrap"/>
          <p:cNvPicPr/>
          <p:nvPr/>
        </p:nvPicPr>
        <p:blipFill>
          <a:blip r:embed="rId1"/>
          <a:stretch/>
        </p:blipFill>
        <p:spPr>
          <a:xfrm>
            <a:off x="1990800" y="1600200"/>
            <a:ext cx="50832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Political Cartoon #1 Title: Another Perfect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838080" y="59436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rtist:  Jeff Danziger      Date:  September, 2005  http://cartoonbox.slate.com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762120" y="861840"/>
            <a:ext cx="761976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Political Cartoon #3  Title:  Homeland Security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990720" y="57150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rtist:  Mike Keefe,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The Denver Post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Date:  September,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scrap"/>
          <p:cNvPicPr/>
          <p:nvPr/>
        </p:nvPicPr>
        <p:blipFill>
          <a:blip r:embed="rId1"/>
          <a:stretch/>
        </p:blipFill>
        <p:spPr>
          <a:xfrm>
            <a:off x="762120" y="1066680"/>
            <a:ext cx="75438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02:40:40Z</dcterms:created>
  <dc:creator>Molly Miracle</dc:creator>
  <dc:description/>
  <dc:language>en-US</dc:language>
  <cp:lastModifiedBy>hberndt</cp:lastModifiedBy>
  <dcterms:modified xsi:type="dcterms:W3CDTF">2010-02-24T15:45:32Z</dcterms:modified>
  <cp:revision>71</cp:revision>
  <dc:subject/>
  <dc:title>Slide 1</dc:title>
</cp:coreProperties>
</file>